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FCE-F260-4EDD-A712-438C7E93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86A-0918-462C-8C66-DF299196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987-55B9-4956-A74F-D5BB8565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30C-7776-4D01-9CD8-834D6D80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351-0E34-41BC-9631-4EFCCEB2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E35-AFCE-4B33-BB3B-2A3AD08E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AE3-ECE5-44D5-8547-4B3C4BFA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ADD-E4A5-4E4E-9D10-27D7069D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C86-0E34-486B-A800-05F18ED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A5B-4533-486C-BB37-5E3AD199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7CA-77DE-486D-B78A-4AF464D8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E0E-E62C-463B-B698-8408235F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7C8-8F5D-4416-B3E6-2297F2313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th’s Hist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ivet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477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988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1880" y="16765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3280" y="167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676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676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1676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34520" y="1676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1360" y="12952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1800" y="1295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7600" y="1295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84440" y="129528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72840" y="1336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27560" y="1295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2920" y="1295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1295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70760" y="1295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68880" y="1260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104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3400" y="2057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3160" y="2057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0960" y="2057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67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720" y="202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544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65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576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56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376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2484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2658960"/>
            <a:ext cx="47246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7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6380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41560" y="2133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56160" y="2133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920" y="2133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3480" y="2133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1000" y="270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17880" y="27432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0760" y="27432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60880" y="27432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477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9810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0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211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9810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98108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5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28040" y="198108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2600" y="2819520"/>
            <a:ext cx="3786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59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10760" y="205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288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8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58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5105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82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25280" y="1793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60880" y="18288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35120" y="182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9760" y="182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980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25760" y="182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791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0124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100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8724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197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3660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40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7040" y="17524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7524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556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70760" y="175248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708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8160" y="175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42360" y="1752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23960" y="2251080"/>
            <a:ext cx="4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3160" y="2286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3240" y="22860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41960" y="2286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901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5943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3024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376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524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69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572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7304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7240" y="1447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1360" y="14479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19810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65520" y="198108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008520" cy="3160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915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19:10Z</dcterms:modified>
  <cp:revision>19</cp:revision>
  <dc:subject/>
  <dc:title>No Slide Title</dc:title>
</cp:coreProperties>
</file>